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5568-4138-4E2C-A901-38C637F9B7B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C382-88AF-4ABB-917E-F4F9AEFE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EE9-C5CD-45FA-9D70-74AA1966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A28-FF46-407A-8373-27FD3FAE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954-2DE3-4F11-B42A-5E132736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863C-5ABB-4897-A2BF-1E9DC8A5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E9FA-E389-4837-BC1B-BB80F5D2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18CA-9C27-4D69-91BF-3E361E65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2D47-AEFC-4B82-B960-E23F4849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3B84-B002-4572-A566-006A3BD6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F3B6-DBEC-41F3-A69C-CA6CF2C5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EFDA-A49A-4F83-BC6C-59A29D89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77B-6DCA-4F4C-B5A1-36BFF7D6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9D6C-C98B-4605-8347-754DE0BF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D625-528B-482B-9437-2A17412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CAC4-73A6-4317-8B4D-1B7D9B7B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C0F5-DB7A-4015-8ED2-96E1AAED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4B86-A744-4CCB-A0E8-3B289CF1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CAE-B2AA-4AC5-8851-F0575DDC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46E-4F65-4F74-90AE-B58BCBFB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087-5E1A-42F0-8E1D-0282E873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438-1553-4557-8AAC-E1CA0E46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59D-A6A1-470F-AD4B-16012438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C18-D05F-4C20-A904-826308C8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209-9D0D-490E-95ED-9E918214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03F6-CA72-47ED-9471-936F262AE7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5EB2-1BC5-442A-859C-17D873F7DA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hup.edu/~dsimanek/scenario/labman1/atom.gif&amp;imgrefurl=http://www.lhup.edu/~dsimanek/scenario/analogy.htm&amp;usg=__FEC_VogIXbghGkoxomZcOWXdC_0=&amp;h=240&amp;w=245&amp;sz=12&amp;hl=en&amp;start=15&amp;um=1&amp;tbnid=-U8eVTWiIsbxfM:&amp;tbnh=108&amp;tbnw=110&amp;prev=/images%3Fq%3Dmodels%2Bof%2Bthe%2Batom%26um%3D1%26hl%3Den%26rlz%3D1T4GPEA_enCA295CA295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ATO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048120"/>
            <a:ext cx="211464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rnest Rutherford (1908) - Nuclear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rutherford_atom"/>
          <p:cNvPicPr/>
          <p:nvPr/>
        </p:nvPicPr>
        <p:blipFill>
          <a:blip r:embed="rId1"/>
          <a:stretch/>
        </p:blipFill>
        <p:spPr>
          <a:xfrm>
            <a:off x="1295280" y="2590920"/>
            <a:ext cx="2432160" cy="2743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ernest_rutherford2"/>
          <p:cNvPicPr/>
          <p:nvPr/>
        </p:nvPicPr>
        <p:blipFill>
          <a:blip r:embed="rId2"/>
          <a:stretch/>
        </p:blipFill>
        <p:spPr>
          <a:xfrm>
            <a:off x="5410080" y="2438280"/>
            <a:ext cx="207648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rnest Rutherford (1908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nucleus3gif"/>
          <p:cNvPicPr/>
          <p:nvPr/>
        </p:nvPicPr>
        <p:blipFill>
          <a:blip r:embed="rId1"/>
          <a:stretch/>
        </p:blipFill>
        <p:spPr>
          <a:xfrm>
            <a:off x="1676520" y="2286000"/>
            <a:ext cx="5095800" cy="33433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atom2.jpg"/>
          <p:cNvPicPr/>
          <p:nvPr/>
        </p:nvPicPr>
        <p:blipFill>
          <a:blip r:embed="rId1"/>
          <a:stretch/>
        </p:blipFill>
        <p:spPr>
          <a:xfrm>
            <a:off x="2362320" y="21337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5" descr="T014145A.gif"/>
          <p:cNvPicPr/>
          <p:nvPr/>
        </p:nvPicPr>
        <p:blipFill>
          <a:blip r:embed="rId1"/>
          <a:stretch/>
        </p:blipFill>
        <p:spPr>
          <a:xfrm>
            <a:off x="822240" y="1816200"/>
            <a:ext cx="7493040" cy="42861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 combination of all mode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Picture 2" descr="http://sharpiron.files.wordpress.com/2008/06/atomic-models3.jpg"/>
          <p:cNvPicPr/>
          <p:nvPr/>
        </p:nvPicPr>
        <p:blipFill>
          <a:blip r:embed="rId1"/>
          <a:stretch/>
        </p:blipFill>
        <p:spPr>
          <a:xfrm>
            <a:off x="1143000" y="1523880"/>
            <a:ext cx="6721560" cy="5127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rawing Bohr Diagra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laser1.jpg"/>
          <p:cNvPicPr/>
          <p:nvPr/>
        </p:nvPicPr>
        <p:blipFill>
          <a:blip r:embed="rId1"/>
          <a:stretch/>
        </p:blipFill>
        <p:spPr>
          <a:xfrm>
            <a:off x="2209680" y="1371600"/>
            <a:ext cx="4343400" cy="4206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52480" y="1514520"/>
            <a:ext cx="5083200" cy="3438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Ion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362320" y="2403360"/>
            <a:ext cx="3843360" cy="26449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6" name="Picture 4" descr="b11_5"/>
          <p:cNvPicPr/>
          <p:nvPr/>
        </p:nvPicPr>
        <p:blipFill>
          <a:blip r:embed="rId1"/>
          <a:stretch/>
        </p:blipFill>
        <p:spPr>
          <a:xfrm>
            <a:off x="1295280" y="1998720"/>
            <a:ext cx="6477120" cy="3806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910040" cy="35928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o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3 subatomic particles: 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electrons (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nd neutrons 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How ionic bonds form: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Picture 4" descr="Sodium_atom_and_Chlorine_atom"/>
          <p:cNvPicPr/>
          <p:nvPr/>
        </p:nvPicPr>
        <p:blipFill>
          <a:blip r:embed="rId1"/>
          <a:stretch/>
        </p:blipFill>
        <p:spPr>
          <a:xfrm>
            <a:off x="1447920" y="2232000"/>
            <a:ext cx="5295960" cy="28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Picture 4" descr="sodium_ion_and_chlorine_ion"/>
          <p:cNvPicPr/>
          <p:nvPr/>
        </p:nvPicPr>
        <p:blipFill>
          <a:blip r:embed="rId1"/>
          <a:stretch/>
        </p:blipFill>
        <p:spPr>
          <a:xfrm>
            <a:off x="1924200" y="2419200"/>
            <a:ext cx="5295600" cy="30099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s of the Atom - 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ttp://www.lsua.info/chem1001/vocabulary/Module3/AtomHistory.jpg"/>
          <p:cNvPicPr/>
          <p:nvPr/>
        </p:nvPicPr>
        <p:blipFill>
          <a:blip r:embed="rId1"/>
          <a:stretch/>
        </p:blipFill>
        <p:spPr>
          <a:xfrm>
            <a:off x="1549440" y="1028880"/>
            <a:ext cx="6146640" cy="4609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ohn Dalton (1803)- Billiard B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10312949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353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s4"/>
          <p:cNvPicPr/>
          <p:nvPr/>
        </p:nvPicPr>
        <p:blipFill>
          <a:blip r:embed="rId2"/>
          <a:stretch/>
        </p:blipFill>
        <p:spPr>
          <a:xfrm>
            <a:off x="5334120" y="23623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ohn Dalton (1803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. J. Thomson (1897) – Plum Pudd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Thomson_model_E"/>
          <p:cNvPicPr/>
          <p:nvPr/>
        </p:nvPicPr>
        <p:blipFill>
          <a:blip r:embed="rId1"/>
          <a:stretch/>
        </p:blipFill>
        <p:spPr>
          <a:xfrm>
            <a:off x="1181160" y="2666880"/>
            <a:ext cx="2598840" cy="2743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rutherford3"/>
          <p:cNvPicPr/>
          <p:nvPr/>
        </p:nvPicPr>
        <p:blipFill>
          <a:blip r:embed="rId2"/>
          <a:stretch/>
        </p:blipFill>
        <p:spPr>
          <a:xfrm>
            <a:off x="5715000" y="2743200"/>
            <a:ext cx="1765440" cy="27432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. J. Thomson (189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07:21Z</dcterms:created>
  <dc:creator>gwinsor</dc:creator>
  <dc:description/>
  <dc:language>en-US</dc:language>
  <cp:lastModifiedBy>LEGION</cp:lastModifiedBy>
  <dcterms:modified xsi:type="dcterms:W3CDTF">2017-01-26T09:19:26Z</dcterms:modified>
  <cp:revision>15</cp:revision>
  <dc:subject/>
  <dc:title>The ATOM</dc:title>
</cp:coreProperties>
</file>